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041BA0-E49E-4410-BE51-2C89D97285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900C44-F13D-4B01-AE7D-1DD396AF5C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8B1C83-06E3-4BC0-9D36-7E9AC3A4A3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A3A30B-0FE4-4D09-9CCB-F45934A069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1EEB3B-237A-442C-82A8-98920923B9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F074A5-4F08-4CE6-8FD3-BED418A3DC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81EE50-E6CF-48BC-8BE4-26050386FB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1D5161-D975-4BD0-AA1A-F53D5C5A18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BAB283-FD90-4363-ABC0-130559ED9F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F0677F-DAB7-454F-A8D7-0A79CFB64E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354495-823B-4735-BC5C-548C805F8C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E63C2A-D131-4CF7-AFD7-592D00FCB9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0BECC-95BD-495D-AF36-D0C4AFB8D7C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en.wikipedia.org/wiki/Active_learning" TargetMode="External"/><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609480"/>
            <a:ext cx="8001000" cy="5486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0000"/>
                </a:solidFill>
                <a:latin typeface="Impact"/>
              </a:rPr>
              <a:t>INQUIRY BASED TEACHING</a:t>
            </a:r>
            <a:endParaRPr b="0" lang="en-US" sz="8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228600" y="761760"/>
            <a:ext cx="8229600" cy="5715000"/>
          </a:xfrm>
          <a:prstGeom prst="rect">
            <a:avLst/>
          </a:prstGeom>
          <a:noFill/>
          <a:ln w="0">
            <a:noFill/>
          </a:ln>
        </p:spPr>
        <p:txBody>
          <a:bodyPr lIns="90000" rIns="90000" tIns="46800" bIns="46800"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ow to set up your classroom to Maximize Inquiry</a:t>
            </a:r>
            <a:endParaRPr b="0" lang="en-US" sz="2400" spc="-1" strike="noStrike">
              <a:solidFill>
                <a:srgbClr val="000000"/>
              </a:solidFill>
              <a:latin typeface="Times New Roman"/>
            </a:endParaRPr>
          </a:p>
          <a:p>
            <a:pPr marL="335880" indent="-3358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ke it more child specific, have a look at the local materials in your area, add up as you go, depending on where the Inquiry is leading to.</a:t>
            </a:r>
            <a:endParaRPr b="0" lang="en-US" sz="2400" spc="-1" strike="noStrike">
              <a:solidFill>
                <a:srgbClr val="000000"/>
              </a:solidFill>
              <a:latin typeface="Times New Roman"/>
            </a:endParaRPr>
          </a:p>
          <a:p>
            <a:pPr marL="335880" indent="-3358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sorts of materials for the child to explore.</a:t>
            </a:r>
            <a:endParaRPr b="0" lang="en-US" sz="2400" spc="-1" strike="noStrike">
              <a:solidFill>
                <a:srgbClr val="000000"/>
              </a:solidFill>
              <a:latin typeface="Times New Roman"/>
            </a:endParaRPr>
          </a:p>
          <a:p>
            <a:pPr marL="335880" indent="-3358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t up different corners in the classroom.</a:t>
            </a:r>
            <a:endParaRPr b="0" lang="en-US" sz="2400" spc="-1" strike="noStrike">
              <a:solidFill>
                <a:srgbClr val="000000"/>
              </a:solidFill>
              <a:latin typeface="Times New Roman"/>
            </a:endParaRPr>
          </a:p>
          <a:p>
            <a:pPr marL="335880" indent="-3358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tting up provocations on the bulletin boards.</a:t>
            </a:r>
            <a:endParaRPr b="0" lang="en-US" sz="2400" spc="-1" strike="noStrike">
              <a:solidFill>
                <a:srgbClr val="000000"/>
              </a:solidFill>
              <a:latin typeface="Times New Roman"/>
            </a:endParaRPr>
          </a:p>
          <a:p>
            <a:pPr marL="335880" indent="-3358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t up may be changed periodically by bringing in manipulative which are more challenging as the children progress.</a:t>
            </a:r>
            <a:endParaRPr b="0" lang="en-US" sz="2400" spc="-1" strike="noStrike">
              <a:solidFill>
                <a:srgbClr val="000000"/>
              </a:solidFill>
              <a:latin typeface="Times New Roman"/>
            </a:endParaRPr>
          </a:p>
          <a:p>
            <a:pPr marL="335880" indent="-3358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rything labeled with pictures/names at children’s level.</a:t>
            </a:r>
            <a:endParaRPr b="0" lang="en-US" sz="2400" spc="-1" strike="noStrike">
              <a:solidFill>
                <a:srgbClr val="000000"/>
              </a:solidFill>
              <a:latin typeface="Times New Roman"/>
            </a:endParaRPr>
          </a:p>
          <a:p>
            <a:pPr marL="335880" indent="-3358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fe and inviting environment with enough resources for them to explore in all areas of development.</a:t>
            </a:r>
            <a:endParaRPr b="0" lang="en-US" sz="2400" spc="-1" strike="noStrike">
              <a:solidFill>
                <a:srgbClr val="000000"/>
              </a:solidFill>
              <a:latin typeface="Times New Roman"/>
            </a:endParaRPr>
          </a:p>
          <a:p>
            <a:pPr marL="335880" indent="-3358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pending on your central idea, the environment would be set up accordingly. Resources like books, human resources, visuals, hands on materials can be made use of.</a:t>
            </a:r>
            <a:endParaRPr b="0" lang="en-US" sz="2400" spc="-1" strike="noStrike">
              <a:solidFill>
                <a:srgbClr val="000000"/>
              </a:solidFill>
              <a:latin typeface="Times New Roman"/>
            </a:endParaRPr>
          </a:p>
          <a:p>
            <a:pPr marL="335880" indent="-3358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hotos of children’s inquiry activities to provide opportunity for reflection and drive further inquir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609120"/>
            <a:ext cx="7924680" cy="5257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Times New Roman"/>
              </a:rPr>
              <a:t>What do you understand by the term ‘Inquiry’?</a:t>
            </a:r>
            <a:endParaRPr b="0" lang="en-US" sz="7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440" y="609120"/>
            <a:ext cx="8077320" cy="1752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Times New Roman"/>
              </a:rPr>
              <a:t>Think - Pair - Share</a:t>
            </a:r>
            <a:endParaRPr b="0" lang="en-US" sz="7200" spc="-1" strike="noStrike">
              <a:solidFill>
                <a:srgbClr val="000000"/>
              </a:solidFill>
              <a:latin typeface="Times New Roman"/>
            </a:endParaRPr>
          </a:p>
        </p:txBody>
      </p:sp>
      <p:pic>
        <p:nvPicPr>
          <p:cNvPr id="44" name="" descr=""/>
          <p:cNvPicPr/>
          <p:nvPr/>
        </p:nvPicPr>
        <p:blipFill>
          <a:blip r:embed="rId1"/>
          <a:stretch/>
        </p:blipFill>
        <p:spPr>
          <a:xfrm>
            <a:off x="2286000" y="2743200"/>
            <a:ext cx="4800600" cy="2828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nquiry</a:t>
            </a:r>
            <a:br>
              <a:rPr sz="4000"/>
            </a:br>
            <a:endParaRPr b="0" lang="en-US" sz="40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quiry learning is a form of </a:t>
            </a:r>
            <a:r>
              <a:rPr b="0" lang="en-US" sz="2000" spc="-1" strike="noStrike" u="sng">
                <a:solidFill>
                  <a:srgbClr val="ccccff"/>
                </a:solidFill>
                <a:uFillTx/>
                <a:latin typeface="Times New Roman"/>
                <a:hlinkClick r:id="rId1"/>
              </a:rPr>
              <a:t>active learning</a:t>
            </a:r>
            <a:r>
              <a:rPr b="0" lang="en-US" sz="2000" spc="-1" strike="noStrike" u="sng">
                <a:solidFill>
                  <a:srgbClr val="000000"/>
                </a:solidFill>
                <a:uFillTx/>
                <a:latin typeface="Times New Roman"/>
              </a:rPr>
              <a:t>, where progress is assessed by how</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well students develop experimental and analytical skills rather than how much knowledge they possess. </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quiry" is defined as "a seeking for truth, information, or knowledge -- seeking information by questioning.“</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covery-based or inquiry-based learning promotes learning through discovery and encourages students to ask questions, find appropriate materials to answer those questions and communicate the results effectively </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racteristics of inquiry</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 student centered and directed</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mphasize process and skill development</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quire students to ask questions</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 conceptual based rather than factual</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courages learner interaction</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uild upon prior knowledge</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tilize and consider students interests</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volves the application of ideas</a:t>
            </a:r>
            <a:endParaRPr b="0" lang="en-US" sz="2800" spc="-1" strike="noStrike">
              <a:solidFill>
                <a:srgbClr val="000000"/>
              </a:solidFill>
              <a:latin typeface="Times New Roman"/>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457200" y="380880"/>
            <a:ext cx="8305920" cy="5943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sum, when the students take the role of active learner, the teacher’s role changes from dispenser of knowledge to facilitator of learning.. What the student acquires is not only content, knowledge but skills in how to – approach a problem, identify important resources, both design and carry out hands on investigations, analyse and interpret data and perhaps most importantly recognize when they have answered the question or solved a proble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e stages of inquiry</a:t>
            </a:r>
            <a:br>
              <a:rPr sz="4000"/>
            </a:br>
            <a:r>
              <a:rPr b="0" lang="en-US" sz="4000" spc="-1" strike="noStrike">
                <a:solidFill>
                  <a:srgbClr val="000000"/>
                </a:solidFill>
                <a:latin typeface="Times New Roman"/>
              </a:rPr>
              <a:t>5 E’s</a:t>
            </a:r>
            <a:endParaRPr b="0" lang="en-US" sz="40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gag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lor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lai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aborat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valuat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380880" y="456840"/>
            <a:ext cx="8382240" cy="60958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gage – design ways to engage the students and focus them on the instructional task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plore- the students have the opportunity to get directly involved with the phenomena and material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plain- the learner begins to put the learning into a communicable for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laborate-the students expand on the concepts they have learned, make connections to other related concepts and apply their learning to the world around the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valuate- is an on going diagnostic process that allows the teacher to determine if the learner has attained understanding of concepts and knowledg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e Inquiry Cycle</a:t>
            </a:r>
            <a:br>
              <a:rPr sz="4000"/>
            </a:br>
            <a:r>
              <a:rPr b="0" lang="en-US" sz="4000" spc="-1" strike="noStrike">
                <a:solidFill>
                  <a:srgbClr val="000000"/>
                </a:solidFill>
                <a:latin typeface="Times New Roman"/>
              </a:rPr>
              <a:t>by John Dewey</a:t>
            </a:r>
            <a:endParaRPr b="0" lang="en-US" sz="4000" spc="-1" strike="noStrike">
              <a:solidFill>
                <a:srgbClr val="000000"/>
              </a:solidFill>
              <a:latin typeface="Times New Roman"/>
            </a:endParaRPr>
          </a:p>
        </p:txBody>
      </p:sp>
      <p:sp>
        <p:nvSpPr>
          <p:cNvPr id="54" name="PlaceHolder 2"/>
          <p:cNvSpPr>
            <a:spLocks noGrp="1"/>
          </p:cNvSpPr>
          <p:nvPr>
            <p:ph/>
          </p:nvPr>
        </p:nvSpPr>
        <p:spPr>
          <a:xfrm>
            <a:off x="304920" y="1981080"/>
            <a:ext cx="8076960" cy="4572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sk</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reflect                                                 investigat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discuss                                              creat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55" name=""/>
          <p:cNvSpPr/>
          <p:nvPr/>
        </p:nvSpPr>
        <p:spPr>
          <a:xfrm>
            <a:off x="4724280" y="2286000"/>
            <a:ext cx="152424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flipH="1">
            <a:off x="6629040" y="3657600"/>
            <a:ext cx="30492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flipH="1">
            <a:off x="2590920" y="5029200"/>
            <a:ext cx="3200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flipH="1" flipV="1">
            <a:off x="1447560" y="3657600"/>
            <a:ext cx="53316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flipV="1">
            <a:off x="1600200" y="2361960"/>
            <a:ext cx="167652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PYPSERVER</cp:lastModifiedBy>
  <dcterms:modified xsi:type="dcterms:W3CDTF">2009-06-17T09:42:10Z</dcterms:modified>
  <cp:revision>26</cp:revision>
  <dc:subject/>
  <dc:title>PowerPoint Presentation</dc:title>
</cp:coreProperties>
</file>