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09F8F-F055-4375-B651-CCD613582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98A1F-5650-4457-81D9-0CCF1272E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5A633-381F-41CB-BBA6-711DCA12A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FC7DC-7021-4E35-BA89-065C30266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CEAE-3DBF-4E07-AFD6-F2C9324EC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55E8-10E5-4F28-A346-4B2AE6790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F3C05-6982-43F2-BA3C-36761D256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6F1BF-D8B7-408E-AAF7-063A2EEE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A186C-C4D9-4AB3-8AD6-743D69143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765C-737D-4CF9-B6E7-1898592A2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8741-2AE4-4FFA-A1AD-EE4A2A89E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19D60-1E6F-4653-ABC5-16B0572B0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ED5B-8D1C-43A8-B953-A6A4283BD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ve_learnin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480"/>
            <a:ext cx="80010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Impact"/>
              </a:rPr>
              <a:t>INQUIRY BASED TEACHING</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761760"/>
            <a:ext cx="8229600" cy="5715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o set up your classroom to Maximize Inquiry</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more child specific, have a look at the local materials in your area, add up as you go, depending on where the Inquiry is leading to.</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rts of materials for the child to explor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different corners in the classroom.</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ing up provocations on the bulletin board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may be changed periodically by bringing in manipulative which are more challenging as the children progres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labeled with pictures/names at children’s level.</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and inviting environment with enough resources for them to explore in all areas of development.</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your central idea, the environment would be set up accordingly. Resources like books, human resources, visuals, hands on materials can be made use of.</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s of children’s inquiry activities to provide opportunity for reflection and drive further inqui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09120"/>
            <a:ext cx="792468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do you understand by the term ‘Inquiry’?</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609120"/>
            <a:ext cx="80773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nk - Pair - Share</a:t>
            </a:r>
            <a:endParaRPr b="0" lang="en-US" sz="7200" spc="-1" strike="noStrike">
              <a:solidFill>
                <a:srgbClr val="000000"/>
              </a:solidFill>
              <a:latin typeface="Times New Roman"/>
            </a:endParaRPr>
          </a:p>
        </p:txBody>
      </p:sp>
      <p:pic>
        <p:nvPicPr>
          <p:cNvPr id="44" name="" descr=""/>
          <p:cNvPicPr/>
          <p:nvPr/>
        </p:nvPicPr>
        <p:blipFill>
          <a:blip r:embed="rId1"/>
          <a:stretch/>
        </p:blipFill>
        <p:spPr>
          <a:xfrm>
            <a:off x="2286000" y="2743200"/>
            <a:ext cx="48006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quiry</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learning is a form of </a:t>
            </a:r>
            <a:r>
              <a:rPr b="0" lang="en-US" sz="2000" spc="-1" strike="noStrike" u="sng">
                <a:solidFill>
                  <a:srgbClr val="ccccff"/>
                </a:solidFill>
                <a:uFillTx/>
                <a:latin typeface="Times New Roman"/>
                <a:hlinkClick r:id="rId1"/>
              </a:rPr>
              <a:t>active learning</a:t>
            </a:r>
            <a:r>
              <a:rPr b="0" lang="en-US" sz="2000" spc="-1" strike="noStrike" u="sng">
                <a:solidFill>
                  <a:srgbClr val="000000"/>
                </a:solidFill>
                <a:uFillTx/>
                <a:latin typeface="Times New Roman"/>
              </a:rPr>
              <a:t>, where progress is assessed by h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ll students develop experimental and analytical skills rather than how much knowledge they posses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is defined as "a seeking for truth, information, or knowledge -- seeking information by questio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y-based or inquiry-based learning promotes learning through discovery and encourages students to ask questions, find appropriate materials to answer those questions and communicate the results effective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inquir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tudent centered and direct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 process and skill develop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students to ask ques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nceptual based rather than factua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s learner inte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upon prior knowled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and consider students interes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the application of idea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when the students take the role of active learner, the teacher’s role changes from dispenser of knowledge to facilitator of learning.. What the student acquires is not only content, knowledge but skills in how to – approach a problem, identify important resources, both design and carry out hands on investigations, analyse and interpret data and perhaps most importantly recognize when they have answered the question or solved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ges of inquiry</a:t>
            </a:r>
            <a:br>
              <a:rPr sz="4000"/>
            </a:br>
            <a:r>
              <a:rPr b="0" lang="en-US" sz="4000" spc="-1" strike="noStrike">
                <a:solidFill>
                  <a:srgbClr val="000000"/>
                </a:solidFill>
                <a:latin typeface="Times New Roman"/>
              </a:rPr>
              <a:t>5 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bo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456840"/>
            <a:ext cx="8382240" cy="6095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 design ways to engage the students and focus them on the instructional tas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re- the students have the opportunity to get directly involved with the phenomena and mater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learner begins to put the learning into a communicable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aborate-the students expand on the concepts they have learned, make connections to other related concepts and apply their learning to the world around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s an on going diagnostic process that allows the teacher to determine if the learner has attained understanding of concepts and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nquiry Cycle</a:t>
            </a:r>
            <a:br>
              <a:rPr sz="4000"/>
            </a:br>
            <a:r>
              <a:rPr b="0" lang="en-US" sz="4000" spc="-1" strike="noStrike">
                <a:solidFill>
                  <a:srgbClr val="000000"/>
                </a:solidFill>
                <a:latin typeface="Times New Roman"/>
              </a:rPr>
              <a:t>by John Dewey</a:t>
            </a:r>
            <a:endParaRPr b="0" lang="en-US" sz="4000" spc="-1" strike="noStrike">
              <a:solidFill>
                <a:srgbClr val="000000"/>
              </a:solidFill>
              <a:latin typeface="Times New Roman"/>
            </a:endParaRPr>
          </a:p>
        </p:txBody>
      </p:sp>
      <p:sp>
        <p:nvSpPr>
          <p:cNvPr id="54" name="PlaceHolder 2"/>
          <p:cNvSpPr>
            <a:spLocks noGrp="1"/>
          </p:cNvSpPr>
          <p:nvPr>
            <p:ph/>
          </p:nvPr>
        </p:nvSpPr>
        <p:spPr>
          <a:xfrm>
            <a:off x="304920" y="1981080"/>
            <a:ext cx="807696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flect                                                 investig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cuss                                              cre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 name=""/>
          <p:cNvSpPr/>
          <p:nvPr/>
        </p:nvSpPr>
        <p:spPr>
          <a:xfrm>
            <a:off x="4724280" y="2286000"/>
            <a:ext cx="1524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6629040" y="365760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590920" y="50292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1447560" y="3657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1600200" y="2361960"/>
            <a:ext cx="1676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YPSERVER</cp:lastModifiedBy>
  <dcterms:modified xsi:type="dcterms:W3CDTF">2009-06-17T09:42:10Z</dcterms:modified>
  <cp:revision>26</cp:revision>
  <dc:subject/>
  <dc:title>PowerPoint Presentation</dc:title>
</cp:coreProperties>
</file>